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EC0B-4C1C-4232-A30C-AE8085FBF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2FDB-175A-424E-BCA8-FA5B71F8E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84E7-F0C3-4DB3-B0E1-07D1FC13B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D5D2-9D32-45A9-8E20-CC68ACC26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B71D4-BED3-4ABB-9580-5FF3A1A3C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DEDCB-D104-49CB-90DE-D0C300E52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96920-F492-49AE-B2F3-8E42FCB33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FD3D2-168C-43F5-A02A-80DE6C53D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5AC50-014D-412E-B106-2D518C16D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7E30C-D313-4335-988F-4F982429B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F9AAF-A09A-45B5-A1A1-DAE2C6E0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C1F9-9993-4528-8372-87798DC04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261E6-CC79-4CD2-A013-6033C7792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4F03C-E9FA-49FB-B398-2EE5F7DF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D605B-736E-446A-8FA9-46BD2A3BC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3843F-CB7E-469B-904F-D5D76B4A8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B9B59-C5A7-4C7D-B0B1-0719D0757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EA07-5A9B-4853-9EB4-3077A9999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A31B-51CB-40F7-A6AA-661D2C38B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32A4-897A-47EB-A05B-FE0414F19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A06E-DCB8-45B3-A945-A030D0607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066C-1E3B-4ADB-96F3-4F29FFE6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9F0A-5B67-4CB5-95F2-4458489B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911D-328A-480D-A66C-708C3A5A2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471B1-3DB7-4E6A-AC5F-D637C7DCCC5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16808-86E7-4ADA-BB8B-58A2EDE25EE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Урбанизация и ее роль в жизни общества</a:t>
            </a:r>
            <a:endParaRPr b="0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2895120" y="563832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Выполнил: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ru-RU" sz="2800" spc="-1" strike="noStrike">
                <a:solidFill>
                  <a:srgbClr val="703dff"/>
                </a:solidFill>
                <a:latin typeface="Comic Sans MS"/>
              </a:rPr>
              <a:t>Сметанин Михаил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ru-RU" sz="2800" spc="-1" strike="noStrike">
                <a:solidFill>
                  <a:srgbClr val="703dff"/>
                </a:solidFill>
                <a:latin typeface="Comic Sans MS"/>
              </a:rPr>
              <a:t>ученик 9 класс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solidFill>
            <a:srgbClr val="ffb8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d3d"/>
                </a:solidFill>
                <a:latin typeface="Comic Sans MS"/>
              </a:rPr>
              <a:t>ВЫВОД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На всех стадиях развития человек влиял на окружающую его природу , использовал ее богатства приспосабливал ее под себя, видоизменял… И если на ранних этапах воздействие носило незначительный и очаговый характер, то с развитием науки и техники оно возросло до ужасающих пределов. Охрана природы - задача нашего века, проблема, ставшая социальной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Однако воздействие человека на окружающую среду приняло угрожающие масштабы. Чтобы в корне улучшить положение, понадобятся целенаправленные и продуманные действия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Загрязнение окружающей среды и нарушения экологических связей в экосистемах стали глобальными проблемами. И если человечество будет продолжать идти по нынешнему пути развития, то его гибель, как считают ведущие экологи мира, через два – три поколения неизбежн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00"/>
                </a:solidFill>
                <a:uFillTx/>
                <a:latin typeface="Comic Sans MS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b800"/>
                </a:solidFill>
                <a:uFillTx/>
                <a:latin typeface="Comic Sans MS"/>
              </a:rPr>
              <a:t>Целью моей работы является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b800"/>
                </a:solidFill>
                <a:uFillTx/>
                <a:latin typeface="Comic Sans MS"/>
              </a:rPr>
              <a:t> </a:t>
            </a:r>
            <a:r>
              <a:rPr b="0" i="1" lang="en-US" sz="3200" spc="-1" strike="noStrike">
                <a:solidFill>
                  <a:srgbClr val="00b200"/>
                </a:solidFill>
                <a:latin typeface="Comic Sans MS"/>
              </a:rPr>
              <a:t>Показать загрязняется  ли  оболочка ЗЕМЛИ из-за роста городов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Чтобы достигнуть поставленной  цели были поставлены следующие </a:t>
            </a: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1) Выяснить какие районы  планеты считаются самыми загрязненными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2) Выяснить какие болезни имеются у людей проживающих в экологически неблагополучных районах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3) Узнать какие меры борьбы используются против загрязнения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4) Сделать вывод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340000" y="0"/>
            <a:ext cx="446400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Задач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b200"/>
                </a:solidFill>
                <a:latin typeface="Comic Sans MS"/>
              </a:rPr>
              <a:t>          </a:t>
            </a:r>
            <a:r>
              <a:rPr b="0" i="1" lang="en-US" sz="3200" spc="-1" strike="noStrike">
                <a:solidFill>
                  <a:srgbClr val="00b200"/>
                </a:solidFill>
                <a:latin typeface="Comic Sans MS"/>
              </a:rPr>
              <a:t>Самые грязные регионы Земл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685800" y="1905120"/>
            <a:ext cx="3505320" cy="3504960"/>
            <a:chOff x="685800" y="1905120"/>
            <a:chExt cx="3505320" cy="3504960"/>
          </a:xfrm>
        </p:grpSpPr>
        <p:pic>
          <p:nvPicPr>
            <p:cNvPr id="159" name="" descr=""/>
            <p:cNvPicPr/>
            <p:nvPr/>
          </p:nvPicPr>
          <p:blipFill>
            <a:blip r:embed="rId1"/>
            <a:stretch/>
          </p:blipFill>
          <p:spPr>
            <a:xfrm>
              <a:off x="685800" y="1905120"/>
              <a:ext cx="3505320" cy="35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 txBox="1"/>
            <p:nvPr/>
          </p:nvSpPr>
          <p:spPr>
            <a:xfrm>
              <a:off x="685800" y="1905120"/>
              <a:ext cx="3505320" cy="3504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249"/>
                </a:spcBef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Более 10 миллионов человек рискуют заболеть легочными инфекциями, раком или умереть слишком рано, потому что живут в десяти наиболее загрязненных городах мираСамые экологически неблагополучные места в мире находятся в изолированных областях, далеко от столиц и туристических маршрутов. В основном они расположены в развивающихся странах, где слабо развита защита окружающей среды, а у местных властей ощущается "нехватка знаний" в этой сфере. "Жизнь в загрязненным городе похожа на жизнь под смертным приговором",                                          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omic Sans MS"/>
              </a:rPr>
              <a:t>Top-10 самых загрязненных мест (в алфавитном порядке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1. Дзержинск (Нижегородская область, Россия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2. Кабве (Замбия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3. Ла-Оройа (Перу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4. Линьфынь (Китай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5. Майли-Сай (Киргизия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6. Норильск (Красноярский край, Россия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7. Ранипет (Индия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8. Рудная Пристань (Приморский край, Россия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9. Хайна (Доминиканская республика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10. Чернобыль (Украина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Норильск - город на севере Красноярского края, на юге Таймырского полуострова, в 90 км к востоку от реки Енисей. Находится за Полярным кругом. Население вместе с городами-спутниками - 230,1 тысяч человек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Градообразующее предприятие - Заполярный филиал Горно-металлургической компании "Норильский никель" (в прошлом Норильский горно-металлургический комбинат). Норильск - крупный центр цветной металлургии. Здесь ведется добыча цветных металлов: меди, никеля, кобальта; драгоценных металлов: палладия, осмия (порошок), платины (слитки, порошок), золота (слитки, порошок), серебра (слитки, порошок), иридия (слитки), родия (порошок), рутения (порошок). Попутная продукция: селен металлический, сера техническая, теллур металлический, серная кислота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Норильский комбинат производит 35% мирового палладия, 25% платины, 20% никеля, 20% родия, 10% кобальта. В России 96% никеля, 95% кобальта, 55% меди производится Норильским комбинатом. Предприятия Норильского комбината осуществляют ядовитые выбросы в атмосферу в больших количествах, в результате которых экологическая ситуация в городе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катастрофическая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143000" y="304920"/>
            <a:ext cx="62485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амые грязные города России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Дзержинск - город (до 1930 года - рабочий поселок) в Нижегородской области России. Переименован в 1929 году в честь Феликса Дзержинского. Население - 255,7 тысяч жителей. Дзержинск является одним из центров химической промышленности России: предприятия города производят минеральные удобрения, гербициды, продукты органического синтеза. Действуют также заводы стройматериалов, ЛКМ и оборудования для химической промышленности, канатная, мебельная фабрики, предприятия пищевой промышленности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Рудная Пристань - село (до октября 2004 - посёлок городского типа) в Дальнегорском городском округе Приморского края в устье реки Рудная на берегу Японского моря. Население - 2389 человек (данные переписи 2002 года). В селе расположен металлургический цех Дальневосточного горно-металлургического комбината (обработка свинца), что создает неблагоприятную экологическую обстановку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762120" y="533520"/>
            <a:ext cx="660060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амые грязные города России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703dff"/>
                </a:solidFill>
                <a:uFillTx/>
                <a:latin typeface="Comic Sans MS"/>
              </a:rPr>
              <a:t>Болезни людей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оживание в городе с серьезным загрязнением походит на жизнь в ожидании исполнения смертного приговора” сообщается в докладе ученых института. “Если население не погибает от непосредственного отравления, то раковые заболевания, инфекции дыхательных путей, задержка умственного развития, являются вероятными результатами. Псориаз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сориаз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– одно из самых распространенных кожных заболеваний.Им болеют почти 10% жителей Земли, и оно чаще встречается в крупных городах и у людей, живущих в экологически грязных районах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d3d"/>
                </a:solidFill>
                <a:latin typeface="Comic Sans MS"/>
              </a:rPr>
              <a:t>Меры БОРЬБЫ</a:t>
            </a:r>
            <a:br>
              <a:rPr sz="4400"/>
            </a:br>
            <a:r>
              <a:rPr b="0" lang="en-US" sz="4400" spc="-1" strike="noStrike">
                <a:solidFill>
                  <a:srgbClr val="ff3d3d"/>
                </a:solidFill>
                <a:latin typeface="Comic Sans MS"/>
              </a:rPr>
              <a:t> против загрязн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Очистка гидросферы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Механическая очисткаЭтот метод очистки используется для удаления из сточных вод нерастворимых примесей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Методы физико-химической очистки сточных вод основаны на изменении физического состояния загрязнителей и в большинстве случаев требуют применения реагентов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Химическая или реагентная очисткаОдним из видов обработки сточных вод является реагентная очистка, которая представляет собой сочетание различных типов химических реакций, приводящих к удалению из сточных вод токсичных компонентов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Методы биохимической очистки применяются для удаления из сточных вод органических веществ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Удаление остаточных органических веществПосле биохимической очистки могут остаться органические, вещества плохо усваиваемые микроорганизмами. Лучший способ их удаления - адсорбция активированным углем, который впоследствии регенерируют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Обеззараживание водыХорошо известно, что через воду могут распространяться такие страшные заболевания, как холера, брюшной тиф, инфекционный гепатит, дифтерия и др. Поэтому последней стадией подготовки воды для питьевых и других нужд является ее обеззараживание, т.е. уничтожение болезнетворных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микроорганизмов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чистка  биосферы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 разработка различных типов бессточных технологических систем и водооборотных циклов на основе очистки сточных вод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 разработка систем переработки отходов производства во вторичные материальные ресурсы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 создание и выпуск новых видов продукции с учётом требований повторного её использование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 создание принципиально новые производственных процессов позволяющих исключить или сократить технологические стадии на которых произходит образование отходов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2666880" y="152280"/>
            <a:ext cx="3886200" cy="15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d3d"/>
                </a:solidFill>
                <a:latin typeface="Times New Roman"/>
              </a:rPr>
              <a:t>Меры борьб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d3d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09-12-26T08:31:09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